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png" ContentType="image/png"/>
  <Override PartName="/ppt/media/image3.gif" ContentType="image/gif"/>
  <Override PartName="/ppt/media/image6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D5E8-67F6-4041-94B1-EDB1D1EE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3435-5443-49D1-9789-91FBCE51F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349E-A6DB-44A0-8414-49081914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0E95E-A55A-4F9F-818C-85DF93904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EF61-4953-4F79-BEDB-0615A947C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the “Team CITE Boot Camp Preparations dog tag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E333-3AA2-4223-B700-2B21E7734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AC34-98D5-4798-ADBB-52F8052C4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 up into core subject groups.  Large poster paper and markers, answer the questions above.  Indicate grade level, teacher’s names.  Refer them to the Pre-Planning Project Form in their CITE folder.  Pass out “Cooperative Grouping Technology Jobs” for teacher’s to add to their CITE fo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8FD1-2902-4827-A47C-6C89A7FD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172-B3D9-4EA8-9EF5-DCE4B79E3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8F48-4397-4104-9830-6F91BC6E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C655-8C00-4C28-B792-1E6156A4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9C4E-A3AB-4EF5-8E05-8874710D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F745-80E2-4AD7-AD73-767C1DA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F99-FFF6-416A-A899-A0413119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201-69CA-4DC2-8FD4-93222432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E89-E742-4B1A-A610-B66AD8CE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E15F-B5F2-4874-BD48-2097F8BC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C2F4-D3CC-4B45-AD46-AE27896D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3ED-884F-4EE0-93F1-07BFE1FE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5191-C337-4754-98BC-3633498F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FEDD-D0F5-43BB-846C-BBC9638E65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371600" y="4876560"/>
            <a:ext cx="64008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Integrated Technology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-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0300520"/>
          <p:cNvPicPr/>
          <p:nvPr/>
        </p:nvPicPr>
        <p:blipFill>
          <a:blip r:embed="rId1"/>
          <a:stretch/>
        </p:blipFill>
        <p:spPr>
          <a:xfrm>
            <a:off x="3276720" y="2438280"/>
            <a:ext cx="2666880" cy="229248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6095880" y="3048120"/>
            <a:ext cx="1752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 E A M 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1295280" y="3048120"/>
            <a:ext cx="17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I T 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0" y="60948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lcom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cher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13 - Track 13.wav" descr=""/>
          <p:cNvPicPr/>
          <p:nvPr/>
        </p:nvPicPr>
        <p:blipFill>
          <a:blip r:embed="rId2"/>
          <a:stretch/>
        </p:blipFill>
        <p:spPr>
          <a:xfrm>
            <a:off x="81532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bara Garcia &amp; Gail H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Integration Special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19320" y="3581280"/>
            <a:ext cx="6781680" cy="2531160"/>
          </a:xfrm>
          <a:prstGeom prst="rect">
            <a:avLst/>
          </a:prstGeom>
          <a:solidFill>
            <a:srgbClr val="99cc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            </a:t>
            </a:r>
            <a:r>
              <a:rPr b="0" i="1" lang="en-US" sz="32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A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“</a:t>
            </a:r>
            <a:r>
              <a:rPr b="0" i="1" lang="en-US" sz="3200" spc="-1" strike="noStrike" u="sng">
                <a:solidFill>
                  <a:srgbClr val="a50021"/>
                </a:solidFill>
                <a:uFillTx/>
                <a:latin typeface="Arial"/>
                <a:ea typeface="Arial"/>
              </a:rPr>
              <a:t>Go Around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You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Name one type of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you would like to use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  <a:ea typeface="Arial"/>
              </a:rPr>
              <a:t>your classes this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3" descr="Forward_3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1" descr="Forward_3"/>
          <p:cNvPicPr/>
          <p:nvPr/>
        </p:nvPicPr>
        <p:blipFill>
          <a:blip r:embed="rId2"/>
          <a:stretch/>
        </p:blipFill>
        <p:spPr>
          <a:xfrm>
            <a:off x="6781680" y="342900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5" descr="Forward_3"/>
          <p:cNvPicPr/>
          <p:nvPr/>
        </p:nvPicPr>
        <p:blipFill>
          <a:blip r:embed="rId3"/>
          <a:stretch/>
        </p:blipFill>
        <p:spPr>
          <a:xfrm rot="5400000">
            <a:off x="7657920" y="44575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7" descr="Forward_3"/>
          <p:cNvPicPr/>
          <p:nvPr/>
        </p:nvPicPr>
        <p:blipFill>
          <a:blip r:embed="rId4"/>
          <a:stretch/>
        </p:blipFill>
        <p:spPr>
          <a:xfrm rot="10800000">
            <a:off x="6476760" y="60199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8" descr="Forward_3"/>
          <p:cNvPicPr/>
          <p:nvPr/>
        </p:nvPicPr>
        <p:blipFill>
          <a:blip r:embed="rId5"/>
          <a:stretch/>
        </p:blipFill>
        <p:spPr>
          <a:xfrm rot="10800000">
            <a:off x="3885840" y="60199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9" descr="Forward_3"/>
          <p:cNvPicPr/>
          <p:nvPr/>
        </p:nvPicPr>
        <p:blipFill>
          <a:blip r:embed="rId6"/>
          <a:stretch/>
        </p:blipFill>
        <p:spPr>
          <a:xfrm rot="10800000">
            <a:off x="1676160" y="6019920"/>
            <a:ext cx="68580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1" descr="Forward_3"/>
          <p:cNvPicPr/>
          <p:nvPr/>
        </p:nvPicPr>
        <p:blipFill>
          <a:blip r:embed="rId7"/>
          <a:stretch/>
        </p:blipFill>
        <p:spPr>
          <a:xfrm rot="16200000">
            <a:off x="838800" y="4494600"/>
            <a:ext cx="76068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2" descr="Forward_3"/>
          <p:cNvPicPr/>
          <p:nvPr/>
        </p:nvPicPr>
        <p:blipFill>
          <a:blip r:embed="rId8"/>
          <a:stretch/>
        </p:blipFill>
        <p:spPr>
          <a:xfrm>
            <a:off x="6781680" y="3429000"/>
            <a:ext cx="60984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3" descr="Forward_3"/>
          <p:cNvPicPr/>
          <p:nvPr/>
        </p:nvPicPr>
        <p:blipFill>
          <a:blip r:embed="rId9"/>
          <a:stretch/>
        </p:blipFill>
        <p:spPr>
          <a:xfrm>
            <a:off x="4341960" y="3416400"/>
            <a:ext cx="91584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Purpose of Our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 a cooperative relationship with you as a push-in team me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 all of your questions about CITE’s role, boot camp, basic training, and project planning &amp; facili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dentify project ideas and estimate time frame by marking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Boot Camp Prepa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8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new students to our school district (email us names, grade level, &amp; ID #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Trip” to the computer lab so students know where to report.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udents should always report directly to the computer la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CITE with a printout of your team’s student names and student ID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k students to come prepared with an alternate password (word and/or #s – 6 characters maxim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your core teaching schedule to send us no more than 30 students at a time for 1 block as indicated on your boot camp cale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absent will make up Boot Cam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____________________ during Block _________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1364690000[1]"/>
          <p:cNvPicPr/>
          <p:nvPr/>
        </p:nvPicPr>
        <p:blipFill>
          <a:blip r:embed="rId1"/>
          <a:stretch/>
        </p:blipFill>
        <p:spPr>
          <a:xfrm>
            <a:off x="7315200" y="2133720"/>
            <a:ext cx="1622520" cy="3124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Basic Train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09320" y="1219320"/>
            <a:ext cx="67820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d same as boot camp for 3 blocks with 60 students at a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raining on “must know skills” in Word, Excel, PowerPoint, Publisher, etc. to ensure that all students have the basic training  necessary to be productive in compu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raining in Internet Research techniques and Internet Saf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training on Copyright Laws and MLA report and reference citations format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dapted for each grade leve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j01364750000[1]"/>
          <p:cNvPicPr/>
          <p:nvPr/>
        </p:nvPicPr>
        <p:blipFill>
          <a:blip r:embed="rId1"/>
          <a:stretch/>
        </p:blipFill>
        <p:spPr>
          <a:xfrm>
            <a:off x="152280" y="2133720"/>
            <a:ext cx="2149560" cy="3962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Project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6934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e Curriculum -- Major Top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 Non-Technology Proje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 Project Ide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d Marking Perio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Cj01363250000[1]"/>
          <p:cNvPicPr/>
          <p:nvPr/>
        </p:nvPicPr>
        <p:blipFill>
          <a:blip r:embed="rId1"/>
          <a:srcRect l="30379" t="0" r="0" b="0"/>
          <a:stretch/>
        </p:blipFill>
        <p:spPr>
          <a:xfrm>
            <a:off x="6324480" y="1600200"/>
            <a:ext cx="2819520" cy="4151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6"/>
          <p:cNvSpPr/>
          <p:nvPr/>
        </p:nvSpPr>
        <p:spPr>
          <a:xfrm>
            <a:off x="4876920" y="40384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9"/>
          <p:cNvSpPr/>
          <p:nvPr/>
        </p:nvSpPr>
        <p:spPr>
          <a:xfrm>
            <a:off x="4952880" y="3962520"/>
            <a:ext cx="1447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1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mportant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304920" y="1483920"/>
            <a:ext cx="8686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plan on having your students logon to compu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Boot Camp, they must use the follow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er name = ##-lastfi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ear graduate – 5 letters of last name 3 letters of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Password = student I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Log On To = Souderto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Example:  Jaqueline Jones  =  15-jonesja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ff and students must always save to the </a:t>
            </a:r>
            <a:r>
              <a:rPr b="1" i="1" lang="en-US" sz="2400" spc="-1" strike="noStrike" u="sng">
                <a:solidFill>
                  <a:srgbClr val="009999"/>
                </a:solidFill>
                <a:uFillTx/>
                <a:latin typeface="Arial"/>
              </a:rPr>
              <a:t>“P” dr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files on  any computer in the school &amp; distr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Push-In Guidelines:  Please refer to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ing Hand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l free to email us with any questions, feedback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13 - Track 13.wav" descr=""/>
          <p:cNvPicPr/>
          <p:nvPr/>
        </p:nvPicPr>
        <p:blipFill>
          <a:blip r:embed="rId1"/>
          <a:stretch/>
        </p:blipFill>
        <p:spPr>
          <a:xfrm>
            <a:off x="8381880" y="63244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6T19:00:27Z</dcterms:created>
  <dc:creator>Barb</dc:creator>
  <dc:description/>
  <dc:language>en-US</dc:language>
  <cp:lastModifiedBy>SASD</cp:lastModifiedBy>
  <dcterms:modified xsi:type="dcterms:W3CDTF">2009-09-10T12:26:53Z</dcterms:modified>
  <cp:revision>59</cp:revision>
  <dc:subject/>
  <dc:title>Team Orientation to C I T E </dc:title>
</cp:coreProperties>
</file>